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sha" initials="m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<Relationship Id="rId1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21-10-21T00:57:12.593000000" idx="1">
    <p:pos x="5341" y="1227"/>
    <p:text/>
  </p:cm>
</p:cmLst>
</file>

<file path=ppt/comments/comment6.xml><?xml version="1.0" encoding="utf-8"?>
<p:cmLst xmlns:p="http://schemas.openxmlformats.org/presentationml/2006/main">
  <p:cm authorId="0" dt="2021-10-17T11:56:36.015000000" idx="2">
    <p:pos x="5740" y="196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AB6-CB5F-43ED-8348-BC120427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FB4-C7F9-4969-B96D-32581FFA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39F-C888-4196-B179-0720D2B9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35AF-ED88-4F6A-B4D3-D01299EA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5AE5-0F76-41EC-BD5B-47004E69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B22E-9074-4407-A95B-EF6CAB0C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9304-F4DD-4D0F-B4CE-763DD881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A4CF-BBA6-4385-AB81-BAF1849A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58D5-CC74-4703-A9F4-3426F066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2D06-26C3-485C-9A40-82071B6B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4B87-165D-4B2B-BB65-252B23A4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0B1-6CED-469F-ADB5-DBDD61C6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5A20-0A57-4026-814C-A22647AC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2081-30F0-44E7-9188-B76A94CA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140F-7AB4-48B2-BA04-3D852A2D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A3F8-4B18-48E4-9F40-D3F53691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6134-7E72-4EDD-B959-EB263209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38E9-4645-41E0-AECF-6B974C08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B11E7-411F-41B9-9250-8E869B55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7D947-9877-4625-95E5-D71F05A9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17390-A4ED-429D-8835-CF3D171A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8C809-037B-42E0-BB79-F624F0C9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1E1-DE0C-4F99-91C9-D95C5510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20EC6-DE91-4D21-BB1A-B22A07AE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0C8B-F5C0-45BC-8787-783D7642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842B9-7F9E-4461-B297-AE32D26C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5BC02-1A22-4BFB-BEE8-E5B15340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967B1-C31D-4863-9E9D-B9BF656F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DFF49-C52B-4B8A-B451-B64BCBC7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4EE88-5975-4744-8442-8042F336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8C3-96C0-48B5-8E83-8D32F2AF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138-3A43-4CD8-B18C-5C2D5527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9AD-7A8C-44E6-9263-C1EE8155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861-1AB4-4E58-A705-7E764691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1D5-E92B-4C45-B3F7-782219A3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474-263E-4397-8C10-FB15CCB2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CE90-AF56-4409-A772-6328B79044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b652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9699-046F-48A8-B093-AFBE2FF0BC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b6523e"/>
          </a:solidFill>
          <a:ln w="9360">
            <a:solidFill>
              <a:srgbClr val="b652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b6523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b6523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b6523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2BB8-9796-430A-A9C3-8959C71DC1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БИРСКИЙ ФЕДЕРАЛЬНЫЙ НАУЧНЫЙ ЦЕНТР АГРОБИОТЕХНОЛОГИЙ РОССИЙСКОЙ АКАДЕМИИ НАУК (СФНЦА РАН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бирский научно – исследовательский институт земледелия и химизации (СибНИИЗиХ СФНЦА РАН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Л. Утенко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нд. техн. наук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И. Утенкова, канд. экон. нау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ТОД УПРАВЛЕНИЯ РЕСУРСНЫМ ПОТЕНЦИАЛОМ В ЗЕРНОВОМ ПРОИЗВОДСТВЕ НА АГРОЛАНДШАФТАХ СИБИР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ВОСИБИРСК  202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Заголовок 1"/>
          <p:cNvSpPr/>
          <p:nvPr/>
        </p:nvSpPr>
        <p:spPr>
          <a:xfrm>
            <a:off x="8317080" y="6165720"/>
            <a:ext cx="576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529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 flipV="1">
            <a:off x="179280" y="3180960"/>
            <a:ext cx="81424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3"/>
          <p:cNvSpPr/>
          <p:nvPr/>
        </p:nvSpPr>
        <p:spPr>
          <a:xfrm>
            <a:off x="334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9"/>
          <p:cNvGrpSpPr/>
          <p:nvPr/>
        </p:nvGrpSpPr>
        <p:grpSpPr>
          <a:xfrm>
            <a:off x="326880" y="189000"/>
            <a:ext cx="8421840" cy="5616000"/>
            <a:chOff x="326880" y="189000"/>
            <a:chExt cx="8421840" cy="5616000"/>
          </a:xfrm>
        </p:grpSpPr>
        <p:sp>
          <p:nvSpPr>
            <p:cNvPr id="148" name="AutoShape 32"/>
            <p:cNvSpPr/>
            <p:nvPr/>
          </p:nvSpPr>
          <p:spPr>
            <a:xfrm>
              <a:off x="326880" y="189000"/>
              <a:ext cx="8421840" cy="5616000"/>
            </a:xfrm>
            <a:prstGeom prst="hexagon">
              <a:avLst>
                <a:gd name="adj" fmla="val 37490"/>
                <a:gd name="vf" fmla="val 1154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31"/>
            <p:cNvSpPr/>
            <p:nvPr/>
          </p:nvSpPr>
          <p:spPr>
            <a:xfrm>
              <a:off x="2432160" y="189000"/>
              <a:ext cx="3947400" cy="1203120"/>
            </a:xfrm>
            <a:prstGeom prst="hexagon">
              <a:avLst>
                <a:gd name="adj" fmla="val 82024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30"/>
            <p:cNvSpPr/>
            <p:nvPr/>
          </p:nvSpPr>
          <p:spPr>
            <a:xfrm>
              <a:off x="3221640" y="189000"/>
              <a:ext cx="2368440" cy="12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емледельческая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ханик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9"/>
            <p:cNvSpPr/>
            <p:nvPr/>
          </p:nvSpPr>
          <p:spPr>
            <a:xfrm>
              <a:off x="326880" y="592200"/>
              <a:ext cx="2105280" cy="799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рономия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8"/>
            <p:cNvSpPr/>
            <p:nvPr/>
          </p:nvSpPr>
          <p:spPr>
            <a:xfrm>
              <a:off x="326880" y="1793520"/>
              <a:ext cx="2105280" cy="12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стественные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ау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7"/>
            <p:cNvSpPr/>
            <p:nvPr/>
          </p:nvSpPr>
          <p:spPr>
            <a:xfrm>
              <a:off x="589680" y="3398400"/>
              <a:ext cx="1315800" cy="802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зик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6"/>
            <p:cNvSpPr/>
            <p:nvPr/>
          </p:nvSpPr>
          <p:spPr>
            <a:xfrm>
              <a:off x="589680" y="5002920"/>
              <a:ext cx="1842480" cy="802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5"/>
            <p:cNvSpPr/>
            <p:nvPr/>
          </p:nvSpPr>
          <p:spPr>
            <a:xfrm>
              <a:off x="2694960" y="1793520"/>
              <a:ext cx="1578960" cy="12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стемо-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гия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4"/>
            <p:cNvSpPr/>
            <p:nvPr/>
          </p:nvSpPr>
          <p:spPr>
            <a:xfrm>
              <a:off x="4800600" y="1793520"/>
              <a:ext cx="1578960" cy="12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укове-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ние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3221640" y="4601520"/>
              <a:ext cx="2894760" cy="1203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териалистическая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алектик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2"/>
            <p:cNvSpPr/>
            <p:nvPr/>
          </p:nvSpPr>
          <p:spPr>
            <a:xfrm>
              <a:off x="6379920" y="590040"/>
              <a:ext cx="2368440" cy="802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шиностроение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6643080" y="1793520"/>
              <a:ext cx="1999800" cy="1604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ономика 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ация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ств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0"/>
            <p:cNvSpPr/>
            <p:nvPr/>
          </p:nvSpPr>
          <p:spPr>
            <a:xfrm>
              <a:off x="6643080" y="3799440"/>
              <a:ext cx="2105280" cy="802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валиметрия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6643080" y="5002920"/>
              <a:ext cx="2105280" cy="802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стик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8"/>
            <p:cNvSpPr/>
            <p:nvPr/>
          </p:nvSpPr>
          <p:spPr>
            <a:xfrm>
              <a:off x="4537800" y="1392120"/>
              <a:ext cx="1080" cy="32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 flipH="1">
              <a:off x="3484440" y="1392120"/>
              <a:ext cx="52596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>
              <a:off x="5063760" y="1392120"/>
              <a:ext cx="52632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 flipH="1">
              <a:off x="2169000" y="1392120"/>
              <a:ext cx="105264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>
              <a:off x="5590440" y="1303200"/>
              <a:ext cx="131544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3"/>
            <p:cNvSpPr/>
            <p:nvPr/>
          </p:nvSpPr>
          <p:spPr>
            <a:xfrm flipH="1">
              <a:off x="1905120" y="3398400"/>
              <a:ext cx="2631960" cy="160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2"/>
            <p:cNvSpPr/>
            <p:nvPr/>
          </p:nvSpPr>
          <p:spPr>
            <a:xfrm>
              <a:off x="4537800" y="3398400"/>
              <a:ext cx="2368080" cy="160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 flipH="1">
              <a:off x="1905120" y="3398400"/>
              <a:ext cx="263196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0"/>
            <p:cNvSpPr/>
            <p:nvPr/>
          </p:nvSpPr>
          <p:spPr>
            <a:xfrm>
              <a:off x="4537800" y="3398400"/>
              <a:ext cx="2105280" cy="80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46"/>
          <p:cNvSpPr/>
          <p:nvPr/>
        </p:nvSpPr>
        <p:spPr>
          <a:xfrm>
            <a:off x="250920" y="5282280"/>
            <a:ext cx="8893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.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е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нформационное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транств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едельческой механик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7"/>
          <p:cNvSpPr/>
          <p:nvPr/>
        </p:nvSpPr>
        <p:spPr>
          <a:xfrm>
            <a:off x="846360" y="520236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0" y="189000"/>
            <a:ext cx="914400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ю любой СХО в рыночных условиях  – повышение его эффективности при производстве сельхозпродукции, а способ ее получения – интенсификация.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Однако инновационная деятельность в России доступна только отдельным экономическим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крепким зернопроизводящим хозяйствам, не превышающим 15% от их численности. В зерновом производстве преобладает суженное воспроизводств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[Алтухов А.И.]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% - повышение показателей эффективности не дает желаемых результатов для модернизации отечественного производства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Дасковский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едению расширенного воспроизводства  соответствует уровень рентабельности 25 – 30%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Водянников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ко не зависимо от уровня интенсивности применяемых технологий, а также инноваций, идет повышение затрат на получение дополнительной единицы продукции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Лачуга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Не учитывается закон убывающего плодород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ывая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Семки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что функция реализуется через структуру, изменение которой менее затратно, чем изменение функции, нами предлагается  научная идея, содержащая метод исследования, необходимость и сущность которого содержит структуру иерархических уровней  получения добавленной стоимости, реализуемых в агротехнологиях возделывания зерновых культур в Сибир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2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0" y="22536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рнового производства Сибири на данном этапе не соответствует потенциальным ресурсам  агроландшафтов территории. Оно по - прежнему  остается экстенсивным, энергоемким и экологически несбалансированны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[Милащенко и др.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реднем Сибирь производит 13 – 14 млн. т зерна в год при  потенциале ежегодного урожая 30 – 35 млн. т.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[СибНИИЭСХ СФНЦА РАН]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ожности производства зерна в Сибирском федеральном округ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различных  агротехнологиях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Власенко А.Н., Власенко Н.Г.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760760" y="26503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26920" y="3068640"/>
          <a:ext cx="7848720" cy="2563920"/>
        </p:xfrm>
        <a:graphic>
          <a:graphicData uri="http://schemas.openxmlformats.org/drawingml/2006/table">
            <a:tbl>
              <a:tblPr/>
              <a:tblGrid>
                <a:gridCol w="2616480"/>
                <a:gridCol w="2616120"/>
                <a:gridCol w="2616120"/>
              </a:tblGrid>
              <a:tr h="373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 интенсификации агротехнолог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ев зерновых 10 млн г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жайность, т/г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ловой сбор,              млн. т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кстенсивны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рмальны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нсивны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96"/>
          <p:cNvSpPr/>
          <p:nvPr/>
        </p:nvSpPr>
        <p:spPr>
          <a:xfrm>
            <a:off x="8461440" y="6308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гиональной системе продовольственной безопасности      ограниченность ресурсов  не позволяет сосредоточить производство всех продуктов в наиболее благоприятно сложившихся условиях агроландшафтов, которые характеризуются экологической неустойчивостью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[Щербаков А.О., Жезмер В.Б ]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ому принято считать, что для природных систем важна не величина энергетического воздействия, а надлежащая форма пространственного распределения энергии - «архитектура» энергетического воздействия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Синергетика: Князева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Поэтому применяемые системы управления технологическими операциями не должны быть слишком жесткими, позволять быстро адаптироваться не только к </a:t>
            </a:r>
            <a:r>
              <a:rPr b="1" i="1" lang="ru-RU" sz="1800" spc="-1" strike="noStrike">
                <a:solidFill>
                  <a:srgbClr val="993366"/>
                </a:solidFill>
                <a:latin typeface="Arial"/>
              </a:rPr>
              <a:t>«капризам» природы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, но и к резкому удорожанию энергетических и других ресурс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переходу к рыночным, конкурентоспособным отношения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4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0"/>
            <a:ext cx="914400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сновные момен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риводящие к формированию проблемной   ситуации, </a:t>
            </a: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создающими проблему роста производст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зерновой продукции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еализация генетического потенциала возделываемых культур не превышает 35 – 45%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высокая энергоемкость производимой продукции, тяжелый механичес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й состав почвы и преобладающее использование экстенсивных агротех 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логий делает производимую продукцию низкоконкурентной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Рунов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рименяемые МТА в сельскохозяйственном производстве  совершаю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2 – 54% вредной работы, на что тратится вредная мощность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Гуреев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ежегодно почвы, подверженные различной степени деградации в РФ,    составляет 450 тыс. га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Якушев В.П.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1/3 загрязнения природы приходится на аграрный сектор экономик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жегодный экологический ущерб от интенсивного сельского хозяйства в России превышает 3,0 млрд. руб.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Полушкина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 Урале и в Сибири агросроки проведения полевых работ превышают в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-5 и более раз, что приводит к снижению урожайности до 30%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Плакси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[5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0" y="333360"/>
            <a:ext cx="9144000" cy="64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Что мешает нам двигаться к прекрасному будущему? </a:t>
            </a: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Нам неизвестн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механизмы создания окружающего мира.. Сфера разума расширяется не так   быстро, как это требует реальная экономика, социальная, экологическая ситуация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варцев, Ковальчу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нсификация земледелия связывается с развитием биотехнологий и точностью выполнения технологических операций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[Кирюшин В.И.]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ому соответствует действительно возможная величина урожайности У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а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ехр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)(а +(в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)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: 10 – коэффициент перевода урожайности, т/га; К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коэффициент теплообеспеченности; К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1,0507 – коэффициент развития; К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А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коэффициент фотосинтетически активной радиации; К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коэффициент увлажнения; a, b – коэффициенты аппроксимации; к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коэффициент неоднородности почвенного покрова (НСПП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ижущей силой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вития современной нау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огут служить тольк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отраслевые, вертикально интегрированные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ЕПОЧКИ СОЗДАНИ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БАВЛЕННОЙ СТОИМ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 которых наука интегрирована с производств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[Губанов С.С.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на концепция управления агротехнологиями, воздействие которых в большинстве своем осуществляется через почвенный покров – агроландшафт, для разных масштабов времени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[Михайленко И.М.]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6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0" y="68400"/>
            <a:ext cx="91440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условиях Сибири четыре пространственно - временные уровни управления нами реализуются следующими управляющими воздействиями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- верхний уровен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стратегическое управление. В зависимости от уровня  интенсификации применяемых агротехнологий СибНИИЗИХ СФНЦА РАН  разработаны адаптивно-мобильные полевые севообороты, обеспечиваю 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щие  максимальный рост энергетического коэффициента в диапазоне 2,72–3,09 МДж. Именно биологизация и точность важны сегодня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Кирюшин В.И.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засушливых регионов Сибири ( например, Хакасия - предложена технология поверхностного полива. Комплексное использование предлагаемого технического обеспечения на примере строительства и эксплуатации оросительных систем поверхностного полива (в сравнении с существующими машинами в мелиоративном строительстве) обеспечивает повышение качества выполняемых работ и производительность труда в 3-5 раз, снижает себестоимость 1 тонны сена в 3-4 раза при среднем урожае 5 т/га. Данный уровень  технологического управления способствует стабилизации почвенного плодородия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 течение длительного време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торой иерархический уровен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уровень управления, реализуемый на отдельный период вегетации. Предложенный бороздково – ленточный посев на базе сеялки - культиватора Обь-4ЗТУ блочно-модульного построения на выщелоченных черноземах (ОПХ Элитное) обеспечил прибавку урожайности зерновых культур в размере 20 - 35% по сравнению с рядовым посевом, осуществляемым сеялкой СЗП – 3,6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7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0" y="-200520"/>
            <a:ext cx="9144000" cy="75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а третьем иерархическом уровн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еализуется технологическое управление в реальном времени (режим 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» - оперативное изменение параметров и режимов работы МТА). Так, для управления неоднородной структуры почвенного покрова в агроландшафтах Сибири  предложен автоматический гибкий технологический комплекс  для основной обработки почвы (АТКП), позволяющий улучшить качество обработки почвы, повысить производительность труда на 15 – 20%, что в итоге приводит к снижению агросроков  проведения полевых работ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тверт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уровень технологического воздействия на базе научных принципов, учитывающих физико – механические и технологические свойства объекта обработк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меющий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 – уровен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тражает состояние СХ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целом для получения прогнозируемой величины урожайности зерновых культур  и затратного механизма ее получения разработан метод параметрического синтеза, рекомендуемых для условий Сибири трех уровней интенсивности агротехнологий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[Власенко А.Н. Утенков Г.Л.]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8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1"/>
          <p:cNvSpPr/>
          <p:nvPr/>
        </p:nvSpPr>
        <p:spPr>
          <a:xfrm>
            <a:off x="8459640" y="6383160"/>
            <a:ext cx="649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529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 flipV="1">
            <a:off x="179280" y="3180960"/>
            <a:ext cx="81424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34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21744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СИБИРСКИЙ ФЕДЕРАЛЬНЫЙ НАУЧНЫЙ    ЦЕНТР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АГРОБИОТЕХНОЛОГИЙ РА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(СФНЦА РАН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Picture"/>
          <p:cNvPicPr/>
          <p:nvPr/>
        </p:nvPicPr>
        <p:blipFill>
          <a:blip r:embed="rId1">
            <a:lum bright="-14000"/>
          </a:blip>
          <a:srcRect l="8406" t="0" r="8664" b="0"/>
          <a:stretch/>
        </p:blipFill>
        <p:spPr>
          <a:xfrm>
            <a:off x="324000" y="1197000"/>
            <a:ext cx="8315280" cy="4734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2631240" y="3998880"/>
            <a:ext cx="34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БЛАГОДАРЮ ЗА ВНИМА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236480" y="608652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2021 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7:18:28Z</dcterms:created>
  <dc:creator>Admin</dc:creator>
  <dc:description/>
  <dc:language>en-US</dc:language>
  <cp:lastModifiedBy>Administrator</cp:lastModifiedBy>
  <dcterms:modified xsi:type="dcterms:W3CDTF">2021-10-21T14:54:55Z</dcterms:modified>
  <cp:revision>329</cp:revision>
  <dc:subject/>
  <dc:title>Роль генов контроля развития меристем в регуляции клубенькообразования</dc:title>
</cp:coreProperties>
</file>