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E7F-31F3-4562-8CB7-CBEAC37A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408-7E0C-4FB7-BBDF-AEBAD41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B40-F66E-485A-A062-4FA7834D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E0E-3F2F-46DC-BA91-CA758EB2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12A-06CD-4F54-A33A-3E682DB4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E67-ADA5-4F8C-AD60-2C1D2B4D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CF2-26B7-416E-B50C-FABE964D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904-9E85-4C13-9A48-D37FD289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5ED-99DD-4A11-8D5E-63A07CC1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8BB-9404-4DF1-97F0-2C190C3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301-0ADA-418A-97BA-D1EB8659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5D6-B671-43A3-963A-93402D0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0BC7-ED61-4232-A3D5-37FAA96A0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15960" y="1819440"/>
          <a:ext cx="6112080" cy="40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819440"/>
                    <a:ext cx="611208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A8F-C72F-436B-97D9-DEC982FF21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93720" y="1089000"/>
          <a:ext cx="595476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089000"/>
                    <a:ext cx="59547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019-D7C7-45CA-AC96-C431A59D10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15960" y="1322280"/>
          <a:ext cx="6112080" cy="42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322280"/>
                    <a:ext cx="611208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171-061E-4079-ACD4-506C6BC0D4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15960" y="1154160"/>
          <a:ext cx="611208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154160"/>
                    <a:ext cx="611208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7D3-9537-412E-8650-1D85A72DE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15960" y="1317600"/>
          <a:ext cx="6112080" cy="42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317600"/>
                    <a:ext cx="6112080" cy="42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2BA-DC7A-434B-9499-9BBAB05A1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15960" y="1222200"/>
          <a:ext cx="6112080" cy="44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222200"/>
                    <a:ext cx="6112080" cy="44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040-8B65-414C-8E3F-4FC040BD0E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15960" y="1147680"/>
          <a:ext cx="6112080" cy="45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147680"/>
                    <a:ext cx="611208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3D6-15CD-45B0-8505-0F9E1E0A76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15960" y="1666800"/>
          <a:ext cx="6112080" cy="352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666800"/>
                    <a:ext cx="611208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788-0120-4A96-A98C-EFD2B53B02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2440" y="763560"/>
          <a:ext cx="609912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763560"/>
                    <a:ext cx="60991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B04-83D0-48B9-8030-91489D504F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3T08:07:41Z</dcterms:created>
  <dc:creator>User201</dc:creator>
  <dc:description/>
  <dc:language>en-US</dc:language>
  <cp:lastModifiedBy>User201</cp:lastModifiedBy>
  <dcterms:modified xsi:type="dcterms:W3CDTF">2021-10-22T10:14:42Z</dcterms:modified>
  <cp:revision>24</cp:revision>
  <dc:subject/>
  <dc:title>Слайд 1</dc:title>
</cp:coreProperties>
</file>